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085-F909-4ADA-8C92-50BD4F76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8FF6-443D-4AED-BB2C-C6EB3E46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4FC-9859-4AD8-9629-8AE4AF98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9AB-12B7-483D-8D1A-F190F9A9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06C2-0274-4115-99BC-C22879F6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5066-3CB4-47D2-97F3-FC728254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D7AA-87FB-400C-A723-F6A90EFC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BA60-EEF8-4D3D-9D26-B229770D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4CCB-7C20-441E-BC09-4C4575DD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FE58-9479-4249-8667-518B74D5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36A3-7EC6-43E1-B659-6AFD5745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AA9-4BD8-403B-BE77-1DA4359A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20DD-2CB1-466A-8351-EFF18822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504A-AC58-4464-862C-D6E137A0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72DD-AE75-4315-8CE6-352AD23C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A72D-2751-4D94-9BCF-249FF3FF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D4AC-C008-4236-AE4E-DCB3D2C5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70F1-AC95-4DE0-95DB-60D18D4F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CA4-FCD1-4DF5-8F41-5096A9FF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6F6-88B2-4712-B0E9-FD698A15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A08-D50D-4070-A96A-2084A270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291-884E-4DAE-8527-28C10A1E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376-78ED-47F5-8989-F5811CBD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2FC-3ADA-4212-B5B1-074352D4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C504-69AC-4474-BEA5-14889093158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24A4-934E-429F-A993-04096F624ADF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.wikipedia.org/wiki/&#1606;&#1602;&#1591;&#1577;_&#1575;&#1606;&#1589;&#1607;&#1575;&#1585;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411280" y="981000"/>
            <a:ext cx="432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الدرس الثالث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16000" y="3500280"/>
            <a:ext cx="7273800" cy="201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( </a:t>
            </a: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الحرارة تغير المادة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)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ffcccc">
                    <a:alpha val="50000"/>
                  </a:srgbClr>
                </a:outerShdw>
              </a:effectLst>
              <a:latin typeface="Hesham Cortoba"/>
              <a:ea typeface="Hesham Cortob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2637000"/>
            <a:ext cx="864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يُمْكِنُنِي تَغْييرُ الْماءِ مِنْ سائِلٍ إِلى صُلْبٍ. عِنْدَما يَبْرُدُ الْماءُ كَثيرًا، فَإِنَّهُ يَتَجَمَّدُ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68760" y="1363680"/>
            <a:ext cx="104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3399"/>
                </a:solidFill>
                <a:latin typeface="Times New Roman"/>
              </a:rPr>
              <a:t>كَيْفُ تَتَغَيَّرُ الْمَوادُّ الصُّلْبَةُ وَالسَّوائِلُ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32004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549360"/>
            <a:ext cx="6912000" cy="1584360"/>
          </a:xfrm>
          <a:custGeom>
            <a:avLst/>
            <a:gdLst>
              <a:gd name="textAreaLeft" fmla="*/ 865080 w 6912000"/>
              <a:gd name="textAreaRight" fmla="*/ 6046920 w 6912000"/>
              <a:gd name="textAreaTop" fmla="*/ 19800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9" y="0"/>
                </a:lnTo>
                <a:arcTo wR="675" hR="675" stAng="16200000" swAng="5400000"/>
                <a:lnTo>
                  <a:pt x="5404" y="2700"/>
                </a:lnTo>
                <a:lnTo>
                  <a:pt x="16196" y="2700"/>
                </a:lnTo>
                <a:lnTo>
                  <a:pt x="16196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896" y="18900"/>
                </a:lnTo>
                <a:lnTo>
                  <a:pt x="18896" y="20925"/>
                </a:lnTo>
                <a:arcTo wR="675" hR="675" stAng="0" swAng="5400000"/>
                <a:lnTo>
                  <a:pt x="3379" y="21600"/>
                </a:lnTo>
                <a:arcTo wR="675" hR="675" stAng="5400000" swAng="5400000"/>
                <a:lnTo>
                  <a:pt x="2704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4" y="675"/>
                </a:moveTo>
                <a:arcTo wR="675" hR="675" stAng="0" swAng="5400000"/>
                <a:lnTo>
                  <a:pt x="3379" y="1350"/>
                </a:lnTo>
                <a:arcTo wR="675" hR="675" stAng="16200000" swAng="-5400000"/>
                <a:arcTo wR="675" hR="675" stAng="10800000" swAng="-5400000"/>
                <a:lnTo>
                  <a:pt x="5404" y="2700"/>
                </a:lnTo>
              </a:path>
              <a:path fill="none" w="21600" h="21600">
                <a:moveTo>
                  <a:pt x="16196" y="675"/>
                </a:moveTo>
                <a:arcTo wR="675" hR="675" stAng="10800000" swAng="-5400000"/>
                <a:lnTo>
                  <a:pt x="18221" y="1350"/>
                </a:lnTo>
                <a:arcTo wR="675" hR="675" stAng="16200000" swAng="5400000"/>
                <a:arcTo wR="675" hR="675" stAng="0" swAng="5400000"/>
                <a:lnTo>
                  <a:pt x="16196" y="2700"/>
                </a:lnTo>
              </a:path>
              <a:path fill="none" w="21600" h="21600">
                <a:moveTo>
                  <a:pt x="2704" y="2025"/>
                </a:moveTo>
                <a:lnTo>
                  <a:pt x="2704" y="18900"/>
                </a:lnTo>
              </a:path>
              <a:path fill="none" w="21600" h="21600">
                <a:moveTo>
                  <a:pt x="18896" y="2025"/>
                </a:moveTo>
                <a:lnTo>
                  <a:pt x="18896" y="18900"/>
                </a:lnTo>
              </a:path>
            </a:pathLst>
          </a:cu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81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000000"/>
                </a:solidFill>
                <a:latin typeface="Times New Roman"/>
              </a:rPr>
              <a:t>التَّجَمُّدُ</a:t>
            </a:r>
            <a:r>
              <a:rPr b="1" lang="ar-EG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24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هُوَ تَحَوُّلُ السَّائِلِ إِلَى صُلْبٍ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يُمْكِنُ إِعادَةُ الْماءِ الْمُتَجَمِّدِ إِلى سائِلٍ. تَنْصَهِرُ الْمادَّةُ الصُّلْبَةُ عِنْدَ تَسْخينِها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3578400"/>
            <a:ext cx="1551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79640" y="4724280"/>
            <a:ext cx="4897440" cy="1892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4941720"/>
            <a:ext cx="144468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766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Times New Roman"/>
              </a:rPr>
              <a:t>هُوَ تَحَوُّلُ الصُّلْبِ إلى سائِلٍ.</a:t>
            </a:r>
            <a:r>
              <a:rPr b="1" lang="ar" sz="3600" spc="-1" strike="noStrike">
                <a:solidFill>
                  <a:srgbClr val="ffffff"/>
                </a:solidFill>
                <a:latin typeface="Times New Roman"/>
              </a:rPr>
              <a:t> ويحدث الانصهار عند درجة الحرارة التي يتواجد عندها الطور الصلب والسائل للمادة النقية في حالة توازن. عند الوصول إلى </a:t>
            </a:r>
            <a:r>
              <a:rPr b="0" lang="ar" sz="36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نقطة الانصهار</a:t>
            </a:r>
            <a:r>
              <a:rPr b="1" lang="ar" sz="3600" spc="-1" strike="noStrike">
                <a:solidFill>
                  <a:srgbClr val="ffffff"/>
                </a:solidFill>
                <a:latin typeface="Times New Roman"/>
              </a:rPr>
              <a:t> سيؤدي المزيد من الحرارة إلى تحول الجسم الصلب إلى سائل بدون تغير في درجة الحرارة. عند ذوبان جميع المادة الصلبة، فإن الحرارة الإضافية سوف ترفع درجة حرارة السائ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692280"/>
            <a:ext cx="31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3399"/>
                </a:solidFill>
                <a:latin typeface="Times New Roman"/>
              </a:rPr>
              <a:t>الَانِْصِهار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2637000"/>
            <a:ext cx="860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Times New Roman"/>
              </a:rPr>
              <a:t>عِنْدَ تَسْخينِ الْماءِ فإنَّ بَعْضَه يَتَبَخَّرُ. وعند تبريد الماء فإنه يتجمد وعند تسخين الجليد فإنه يتحول الى ماء مرة أخرى</a:t>
            </a:r>
            <a:r>
              <a:rPr b="1" lang="ar-EG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892800" y="1052640"/>
            <a:ext cx="1095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ff3399"/>
                </a:solidFill>
                <a:latin typeface="Times New Roman"/>
              </a:rPr>
              <a:t>كَيْفَ تَتَغَيَّرُ السَّوائِلُ وَالْغازاتُ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328464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هو تحول السائل إلى غاز. فالماء ينتقل إلى الهواء على شكل غاز.عِنْدَما تكون درجة حرارة الْماءِ أعلى يَكونُ تَبَخُّرُهُ أَسْرَعَ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141300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3399"/>
                </a:solidFill>
                <a:latin typeface="Times New Roman"/>
              </a:rPr>
              <a:t>التَّبَخُّر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76500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بُخارُ الْماءِ هُوَ ماءٌ عَلى شَكْلِ غازٍ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يَتَحَوَّلُ بُخارُ الْماءِ إِلى سائِلٍ عِنْدَما يَبْرُدُ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عِنْدَما يُلامِسُ بُخارُ الْماءِ الْمَوْجودُ في الْهَواءِ سَطْحًا بارِدًا، فَإِنَّهُ يَتَحَوَّلُ إِلى ماءٍ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لِهَذا تَتَجَمَّعُ قَطَرَاتُ الْماءِ عَلى زُجاجِ النَّوَافِذِ وَالنَّظَّارَاتِ</a:t>
            </a:r>
            <a:r>
              <a:rPr b="1" lang="ar-SA" sz="4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أَحْيانًا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3313080" cy="1816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296208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8:09:23Z</dcterms:modified>
  <cp:revision>23</cp:revision>
  <dc:subject/>
  <dc:title>PowerPoint Presentation</dc:title>
</cp:coreProperties>
</file>